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7256-C32A-4896-A754-30FF0E6C52ED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F638-E067-4C38-B24D-92DD9080508C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D4D3-467B-4573-B652-4575CD56B5A3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4F18-FA40-4D60-AB61-4351D09B7409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A6D6-A2E2-425C-9141-8DF38EB0DAA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3DF5-D5A5-4D68-A7D8-FEA4B895BE3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2286-1237-48D8-B83C-144C61F080D8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27A6-333D-485B-B32A-EC674B351C5D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5AB2-1D2C-4858-BBA4-21D132361A1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BEA5-28E0-4099-A377-055CB0A846CC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DF93-02FA-4BBB-88F0-C01C20BFAC02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4AA8-E4E1-4A09-9E6E-79EBC2FEA638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B3E4-F93B-4168-998A-E484B0483C21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EFBC-5150-4ECB-ACE0-18F38B2E6478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F668-EC01-4C89-8AB1-74E59D791838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8A17-9E4B-4958-ABB7-141C65BE89A1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FE53-53DE-4B2B-A06F-E247553C4B0D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A42C-12A2-4883-AF6B-D8A0B0ACB758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95C3-047B-4D28-BBB3-93613AA68DB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F378-C781-4324-95DA-EF86DFB685A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C66B-4EC2-4956-BBE8-EB37A1D742C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C4E2-6577-460B-9E52-F4F74D96326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C995-DC8B-4C0E-8BD7-5A9AE505EFC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27C3-0863-4969-800F-76CB5C8E8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58F8-D374-4C48-A451-781EB234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F57D-1972-4AA3-AAC6-6B22D1D93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6804-A2F0-41A3-A789-933A664D1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9D89-88A4-4027-86EC-BBAC2110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91C9-A093-4AB9-8203-C32C17E5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D0BD-F019-4B43-B1EB-6856088F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F864-B5E5-46A3-B284-D7D09726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874E-7871-48AD-885C-B760B832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DBD0-73D4-48F8-AAE0-978BE0AF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CD1F-EC9B-4DD6-89CB-E6920B08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1784-A458-4524-901E-093E5D5F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524F-5028-4EE3-8CCF-9C009C551094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table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velopment Docu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kyter 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Rev1 : 2009/07/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Rev2 : 2009/08/0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Rev3 : 2009/08/1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Rev4: 2009/12/3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_FILTER ins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etc $ iptables  -L -t mangle -v -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PREROUTING (policy ACCEPT 26688 packets, 4100K byte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INPUT (policy ACCEPT 25042 packets, 4019K byte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60 12638 IP_FILTER  all  --  *      *       0.0.0.0/0            0.0.0.0/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FORWARD (policy ACCEPT 0 packets, 0 byte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OUTPUT (policy ACCEPT 56233 packets, 66M byte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POSTROUTING (policy ACCEPT 56233 packets, 66M byte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IP_FILTER (1 reference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0     0 RETURN     all  --  any    any     192.168.10.0/24      anywher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1429  129K RETURN     all  --  any    any     192.168.1.0/24       anywher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591 75007 DROP       all  --  any    any     anywhere             anywher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ault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ag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ing the init of streaming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s chang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: PORT_STREAM, PORT_SEARCH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Be aware not to invoke DefaultRules.sh when PORT_HTTP and PORT_HTTPS is chang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(“/usr/sbin/DefaultRules.sh”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ault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usr/sbin/DefaultRules.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etc/DefaultRules.con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ault Rules 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etc/DefaultRules.con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文字方塊 3"/>
          <p:cNvSpPr/>
          <p:nvPr/>
        </p:nvSpPr>
        <p:spPr>
          <a:xfrm>
            <a:off x="1071720" y="2119320"/>
            <a:ext cx="771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RVER_TCP_PORTS=80,443,6001,6002,70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RVER_UDP_PORTS=6005,6006,6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ault Rules 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內容版面配置區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4054680" cy="4535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# drop port scan ..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# NMAP FIN/URG/PSH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IPTABLES -A INPUT -p tcp --tcp-flags ALL FIN,URG,PSH -j DROP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# Xmas Tre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IPTABLES -A INPUT -p tcp --tcp-flags ALL ALL -j DROP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# Another Xmas Tre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IPTABLES -A INPUT -p tcp --tcp-flags ALL SYN,RST,ACK,FIN,URG -j DROP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# Null Scan(possibly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IPTABLES -A INPUT -p tcp --tcp-flags ALL NONE -j DROP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# SYN/RS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IPTABLES -A INPUT -p tcp --tcp-flags SYN,RST SYN,RST -j DROP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# SYN/FIN -- Scan(possibly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IPTABLES -A INPUT -p tcp --tcp-flags SYN,FIN SYN,FIN -j DROP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IPTABLES -A INPUT -i lo -j ACCEP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IPTABLES -A INPUT -m state --state ESTABLISHED,RELATED -j ACCEP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# Web server is running on port 80,443,6001,6002,7070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ORTS=`echo $SERVER_TCP_PORTS|sed "s/,/ /g"`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or port in $PORTS 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IPTABLES -A INPUT -p tcp --dport $port -j RATE_LIMI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on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8ed5"/>
                </a:solidFill>
                <a:latin typeface="Calibri"/>
              </a:rPr>
              <a:t>$IPTABLES -A INPUT -p tcp --dport 20 -j RATE_LIM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8ed5"/>
                </a:solidFill>
                <a:latin typeface="Calibri"/>
              </a:rPr>
              <a:t>$IPTABLES -A INPUT -p tcp --dport 21 -j RATE_LIM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ORTS=`echo $SERVER_UDP_PORTS|sed "s/,/ /g"`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or port in $PORTS 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IPTABLES -A INPUT -p udp --dport $port -j RATE_LIMI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on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# Being specific about who we allow to use ssh from the local subne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LOCAL_SUBNET=`ip addr show eth0|grep "inet "|sed "s/  */ /g"|cut -d ' ' -f 3`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IPTABLES -A INPUT -m state --state NEW -s $LOCAL_SUBNET  -p tcp --dport 22 -j RATE_LIMI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雲朵形圖說文字 5"/>
          <p:cNvSpPr/>
          <p:nvPr/>
        </p:nvSpPr>
        <p:spPr>
          <a:xfrm>
            <a:off x="7286760" y="3571920"/>
            <a:ext cx="1571400" cy="642960"/>
          </a:xfrm>
          <a:prstGeom prst="cloudCallout">
            <a:avLst>
              <a:gd name="adj1" fmla="val -66013"/>
              <a:gd name="adj2" fmla="val 337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Based on FTP_SERVER URL Comm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ault Rules script exec 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usr/sbin $ date;DefaultRules.sh ;da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n Jan  1 00:14:46 UTC 200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n Jan  1 00:14:47 UTC 200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雲朵形圖說文字 3"/>
          <p:cNvSpPr/>
          <p:nvPr/>
        </p:nvSpPr>
        <p:spPr>
          <a:xfrm>
            <a:off x="3071880" y="2071800"/>
            <a:ext cx="2286000" cy="1071360"/>
          </a:xfrm>
          <a:prstGeom prst="cloudCallout">
            <a:avLst>
              <a:gd name="adj1" fmla="val -55726"/>
              <a:gd name="adj2" fmla="val -3281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nly 1 second is okey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ault Rules source c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oid DefaultRulesInit (void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ILE *fd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d = fopen ("/etc/DefaultRules.conf", "w+"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if (!fd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eturn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printf (fd, "SERVER_TCP_PORTS="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printf (fd, "%d,", g_media.http_port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printf (fd, "%d,", g_media.https_port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printf (fd, "%d,", nvram_get_i("PORT_CONTROL")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printf (fd, "%d,", nvram_get_i("PORT_STREAM")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printf (fd, "%d\n", nvram_get_i("PORT_RTSP")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printf (fd, "SERVER_UDP_PORTS="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printf (fd, "%d,", nvram_get_i("PORT_SEARCH1")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printf (fd, "%d\n", nvram_get_i("PORT_SEARCH2")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close (fd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my_system ("/usr/sbin/DefaultRules.sh", 0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eturn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very PORT related URL changed will trigger this script, except PORT_HTTP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{"PORT_SEARCH_1", {"PORT_SEARCH1", ""}, 0x07, 0x04, 0x00, 'R', 1, 65535, NULL, url_common, NULL, 0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        EXECUTE_SYSTEM_SEARCH_PORT}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+        EXECUTE_SYSTEM_SEARCH_PORT</a:t>
            </a:r>
            <a:r>
              <a:rPr b="0" lang="en-US" sz="1400" spc="-1" strike="noStrike">
                <a:solidFill>
                  <a:srgbClr val="558ed5"/>
                </a:solidFill>
                <a:latin typeface="Calibri"/>
              </a:rPr>
              <a:t>|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XECUTE_SYSTEM_DEFAULT_RULES}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ault Rules (boot up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/usr/sbin $ iptables  -L -v -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hain INPUT (policy DROP 82 packets, 15414 byte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3F/0x2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3F/0x3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3F/0x37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3F/0x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06/0x0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03/0x0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ACCEPT     all  --  lo     *       0.0.0.0/0            0.0.0.0/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ACCEPT     all  --  *      *       0.0.0.0/0            0.0.0.0/0           state RELATED,ESTABLISHED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tcp  --  *      *       0.0.0.0/0            0.0.0.0/0           tcp dpt:8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tcp  --  *      *       0.0.0.0/0            0.0.0.0/0           tcp dpt:44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tcp  --  *      *       0.0.0.0/0            0.0.0.0/0           tcp dpt:600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tcp  --  *      *       0.0.0.0/0            0.0.0.0/0           tcp dpt:600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tcp  --  *      *       0.0.0.0/0            0.0.0.0/0           tcp dpt:707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tcp  --  *      *       0.0.0.0/0            0.0.0.0/0           tcp dpt:601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udp  --  *      *       0.0.0.0/0            0.0.0.0/0           udp dpt:600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udp  --  *      *       0.0.0.0/0            0.0.0.0/0           udp dpt:600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udp  --  *      *       0.0.0.0/0            0.0.0.0/0           udp dpt:68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tcp  --  *      *       172.16.3.0/24        0.0.0.0/0           state NEW tcp dpt:2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ACCEPT     udp  --  *      *       0.0.0.0/0            0.0.0.0/0           udp dpt:102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hain FORWARD (policy ACCEPT 0 packets, 0 byte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hain OUTPUT (policy ACCEPT 43733 packets, 52M byte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hain RATE_LIMIT (9 reference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ACCEPT     tcp  --  *      *       0.0.0.0/0            0.0.0.0/0           limit: avg 35/sec burst 3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ault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833480" y="2262240"/>
            <a:ext cx="54770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_FIL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ing the init of streaming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(“/usr/sbin/IpFilter.sh”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_FILTER_RULE chang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(“/usr/sbin/IpFilter.sh”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ault Rules (boot up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/usr/sbin $ iptables  -L -v -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hain INPUT (policy DROP 52 packets, 8565 byte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3F/0x2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3F/0x3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3F/0x37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3F/0x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06/0x0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03/0x0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ACCEPT     all  --  lo     *       0.0.0.0/0            0.0.0.0/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8516  491K ACCEPT     all  --  *      *       0.0.0.0/0            0.0.0.0/0           state RELATED,ESTABLISHED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45  6960 RATE_LIMIT  tcp  --  *      *       0.0.0.0/0            0.0.0.0/0           tcp dpt:8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27  6096 RATE_LIMIT  tcp  --  *      *       0.0.0.0/0            0.0.0.0/0           tcp dpt:44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4   192 RATE_LIMIT  tcp  --  *      *       0.0.0.0/0            0.0.0.0/0           tcp dpt:600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3   144 RATE_LIMIT  tcp  --  *      *       0.0.0.0/0            0.0.0.0/0           tcp dpt:600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    48 RATE_LIMIT  tcp  --  *      *       0.0.0.0/0            0.0.0.0/0           tcp dpt:707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tcp  --  *      *       0.0.0.0/0            0.0.0.0/0           tcp dpt:601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6  1516 RATE_LIMIT  udp  --  *      *       0.0.0.0/0            0.0.0.0/0           udp dpt:600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5  1020 RATE_LIMIT  udp  --  *      *       0.0.0.0/0            0.0.0.0/0           udp dpt:600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udp  --  *      *       0.0.0.0/0            0.0.0.0/0           udp dpt:68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tcp  --  *      *       172.16.3.0/24        0.0.0.0/0           state NEW tcp dpt:2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ACCEPT     udp  --  *      *       0.0.0.0/0            0.0.0.0/0           udp dpt:102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hain FORWARD (policy ACCEPT 0 packets, 0 byte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hain OUTPUT (policy ACCEPT 17458 packets, 20M byte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hain RATE_LIMIT (9 reference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76 13248 ACCEPT     tcp  --  *      *       0.0.0.0/0            0.0.0.0/0           limit: avg 35/sec burst 3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cking confli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 if any conflict with existed iptables scri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雲朵形圖說文字 3"/>
          <p:cNvSpPr/>
          <p:nvPr/>
        </p:nvSpPr>
        <p:spPr>
          <a:xfrm>
            <a:off x="2214720" y="2500200"/>
            <a:ext cx="2857320" cy="1643040"/>
          </a:xfrm>
          <a:prstGeom prst="cloudCallout">
            <a:avLst>
              <a:gd name="adj1" fmla="val -56236"/>
              <a:gd name="adj2" fmla="val -446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PL had TOS rules on OUTPUT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gration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ease check the following pa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&lt;http://172.16.5.24/svn/repos/CommonLibs/Firewall/INSTALL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 FIL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usr/sbin/IpFilter.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etc/IpFilter.con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_FILTER 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etc/IpFilter.con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字方塊 3"/>
          <p:cNvSpPr/>
          <p:nvPr/>
        </p:nvSpPr>
        <p:spPr>
          <a:xfrm>
            <a:off x="1071720" y="2119320"/>
            <a:ext cx="50720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P_FILTER_STATE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P_FILTER_TYPE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IP_FILTER_RULE=“1,0,172.16.3.72,32,</a:t>
            </a:r>
            <a:r>
              <a:rPr b="0" lang="zh-TW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■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2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3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4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5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6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7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8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9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10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11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12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13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14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15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16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雲朵形圖說文字 4"/>
          <p:cNvSpPr/>
          <p:nvPr/>
        </p:nvSpPr>
        <p:spPr>
          <a:xfrm>
            <a:off x="5357880" y="4071960"/>
            <a:ext cx="2286000" cy="857160"/>
          </a:xfrm>
          <a:prstGeom prst="cloudCallout">
            <a:avLst>
              <a:gd name="adj1" fmla="val -45087"/>
              <a:gd name="adj2" fmla="val -6459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alibri"/>
              </a:rPr>
              <a:t>■</a:t>
            </a:r>
            <a:r>
              <a:rPr b="0" lang="zh-TW" sz="1400" spc="-1" strike="noStrike">
                <a:solidFill>
                  <a:srgbClr val="000000"/>
                </a:solidFill>
                <a:latin typeface="Calibri"/>
              </a:rPr>
              <a:t>　代表空格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_FILTER 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#!/bin/s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 /etc/IpFilter.con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PTABLES="/sbin/iptables -t mangle "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#Checking if there is a existed IP_FILTER chai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$IPTABLES -L IP_FILTER &gt; /dev/null 2&gt;&amp;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f [ $? -eq 1 ]; th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$IPTABLES -N IP_FIL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$IPTABLES -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$IPTABLES -A INPUT -j IP_FIL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f [ $IP_FILTER_STATE = "0" ]; th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xit 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alibri"/>
              </a:rPr>
              <a:t>for RULE in $IP_FILTER_RULE 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TAT=`echo -n $RULE|</a:t>
            </a:r>
            <a:r>
              <a:rPr b="0" lang="en-US" sz="1100" spc="-1" strike="noStrike">
                <a:solidFill>
                  <a:srgbClr val="ff0000"/>
                </a:solidFill>
                <a:latin typeface="Calibri"/>
              </a:rPr>
              <a:t>cut -d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',' -f 2`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P=`echo -n $RULE|cut -d ',' -f 3`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ASK=`echo -n $RULE|cut -d ',' -f 4`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f [ $STAT -eq 1 ]; th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#1 means matched need to be pas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f [ $IP_FILTER_TYPE = "1" ]; th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$IPTABLES -A IP_FILTER -s $IP/$MASK </a:t>
            </a:r>
            <a:r>
              <a:rPr b="0" lang="en-US" sz="1100" spc="-1" strike="noStrike">
                <a:solidFill>
                  <a:srgbClr val="ff0000"/>
                </a:solidFill>
                <a:latin typeface="Calibri"/>
              </a:rPr>
              <a:t>-j RETUR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l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$IPTABLES -A IP_FILTER -s $IP/$MASK </a:t>
            </a:r>
            <a:r>
              <a:rPr b="0" lang="en-US" sz="1100" spc="-1" strike="noStrike">
                <a:solidFill>
                  <a:srgbClr val="ff0000"/>
                </a:solidFill>
                <a:latin typeface="Calibri"/>
              </a:rPr>
              <a:t>-j DRO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#</a:t>
            </a:r>
            <a:r>
              <a:rPr b="0" lang="en-US" sz="1100" spc="-1" strike="noStrike">
                <a:solidFill>
                  <a:srgbClr val="ff0000"/>
                </a:solidFill>
                <a:latin typeface="Calibri"/>
              </a:rPr>
              <a:t>The not matched rest's need to be DRO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f [ $IP_FILTER_TYPE = "1" ]; th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$IPTABLES -A IP_FILTER -j DRO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alibri"/>
              </a:rPr>
              <a:t># if TYPE:0 Deny means those packets matched is need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alibri"/>
              </a:rPr>
              <a:t># to be DROP, otherwise will return to the caller chai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alibri"/>
              </a:rPr>
              <a:t># (ACCEPT and continueing on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雲朵形圖說文字 5"/>
          <p:cNvSpPr/>
          <p:nvPr/>
        </p:nvSpPr>
        <p:spPr>
          <a:xfrm>
            <a:off x="5572080" y="1143000"/>
            <a:ext cx="2071800" cy="3571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eparated wuth 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雲朵形圖說文字 6"/>
          <p:cNvSpPr/>
          <p:nvPr/>
        </p:nvSpPr>
        <p:spPr>
          <a:xfrm>
            <a:off x="7786800" y="1785960"/>
            <a:ext cx="1357200" cy="357120"/>
          </a:xfrm>
          <a:prstGeom prst="cloudCallout">
            <a:avLst>
              <a:gd name="adj1" fmla="val -71000"/>
              <a:gd name="adj2" fmla="val 243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W.E.T. all supports ‘cut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_FILTER script exec 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/usr/sbin $ date;IpFilter.sh ;d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/ $ date;IpFilter.sh ;d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n Jan  1 00:06:51 UTC 200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n Jan  1 00:06:53 UTC 200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Y? (still needs 2 secon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[ 1 -lt 10 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eval NAME=$IP_FILTER_RULE0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NAME=1,1,172.16.3.72,3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let i=1+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NAME=1,1,172.16.3.72,32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echo -n 1,1,172.16.3.72,32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cut -d , -f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INDEX=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cut -d , -f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echo -n 1,1,172.16.3.72,32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STAT=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echo -n 1,1,172.16.3.72,32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cut -d , -f 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IP=172.16.3.7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echo -n 1,1,172.16.3.72,32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cut -d , -f 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MASK=3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[ 1 -eq 1 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_FILTER source c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oid IpFilterInit (vo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LE *fd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t i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d = fopen ("/etc/IpFilter.conf", "w+")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f (!f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turn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printf (fd, "IP_FILTER_STATE=%s\n", nvram_safe_get("IP_FILTER_STATE"))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printf (fd, "IP_FILTER_TYPE=%s\n", nvram_safe_get("IP_FILTER_TYPE"))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printf (fd, "IP_FILTER_RULE=</a:t>
            </a:r>
            <a:r>
              <a:rPr b="0" lang="en-US" sz="1300" spc="-1" strike="noStrike">
                <a:solidFill>
                  <a:srgbClr val="ff0000"/>
                </a:solidFill>
                <a:latin typeface="Calibri"/>
              </a:rPr>
              <a:t>\"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")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 (i=1; i&lt;=16; i++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printf (fd, "%s</a:t>
            </a:r>
            <a:r>
              <a:rPr b="0" lang="en-US" sz="1300" spc="-1" strike="noStrike">
                <a:solidFill>
                  <a:srgbClr val="558ed5"/>
                </a:solidFill>
                <a:latin typeface="Calibri"/>
              </a:rPr>
              <a:t>,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", nvram_safe_getf ("IP_FILTER_RULE%02d", i))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printf (fd, </a:t>
            </a:r>
            <a:r>
              <a:rPr b="0" lang="en-US" sz="1300" spc="-1" strike="noStrike">
                <a:solidFill>
                  <a:srgbClr val="ff0000"/>
                </a:solidFill>
                <a:latin typeface="Calibri"/>
              </a:rPr>
              <a:t>"\"\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")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close (fd)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y_system ("/usr/sbin/IpFilter.sh", 0)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turn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雲朵形圖說文字 3"/>
          <p:cNvSpPr/>
          <p:nvPr/>
        </p:nvSpPr>
        <p:spPr>
          <a:xfrm>
            <a:off x="3643200" y="3857760"/>
            <a:ext cx="3929040" cy="285480"/>
          </a:xfrm>
          <a:prstGeom prst="cloudCallout">
            <a:avLst>
              <a:gd name="adj1" fmla="val -66282"/>
              <a:gd name="adj2" fmla="val -396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hell script needs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_FILTER ins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etc/config/update.con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STATE='1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TYPE='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1,1,172.16.3.82,32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2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3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4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5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6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7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8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9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10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11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12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13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14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15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16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etc $ cat /etc/IpFilter.con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STATE=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TYPE=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"1,1,192.168.10.1,24, 2,1,192.168.1.1,24, 3,0,0.0.0.0,0, 4,0,0.0.0.0,0, 5,0,0.0.0.0,0, 6,0,0.0.0.0,0, 7,0,0.0.0.0,0, 8,0,0.0.0.0,0, 9,0,0.0.0.0,0, 10,0,0.0.0.0,0, 11,0,0.0.0.0,0, 12,0,0.0.0.0,0, 13,0,0.0.0.0,0, 14,0,0.0.0.0,0, 15,0,0.0.0.0,0, 16,0,0.0.0.0,0, "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_FILTER ins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etc $ iptables  -L -t mang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PREROUTING (policy ACCEPT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arget     prot opt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INPUT (policy ACCEPT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arget     prot opt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P_FILTER  all  --  0.0.0.0/0            0.0.0.0/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FORWARD (policy ACCEPT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arget     prot opt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OUTPUT (policy ACCEPT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arget     prot opt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POSTROUTING (policy ACCEPT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arget     prot opt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IP_FILTER (1 reference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arget     prot opt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TURN     all  --  192.168.10.0/24      0.0.0.0/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TURN     all  --  192.168.1.0/24       0.0.0.0/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ROP       all  --  0.0.0.0/0            0.0.0.0/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4T10:55:34Z</dcterms:created>
  <dc:creator>ACTi All Users</dc:creator>
  <dc:description/>
  <dc:language>en-US</dc:language>
  <cp:lastModifiedBy>ACTi All Users</cp:lastModifiedBy>
  <dcterms:modified xsi:type="dcterms:W3CDTF">2010-01-27T09:58:25Z</dcterms:modified>
  <cp:revision>52</cp:revision>
  <dc:subject/>
  <dc:title>Iptables </dc:title>
</cp:coreProperties>
</file>